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B9E-AC1F-4C8D-A5CF-B970E579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716-FFBF-4F61-8518-02E023B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19-D3AA-476A-8E53-EAE322A2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F43-7AA5-4A31-92F5-19E13F7E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39D-D5F6-4EF3-AB78-74D0E8F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3EC-CDCB-43E0-B9D0-1DAD258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02F-C12E-4902-B4BE-9D81868A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D7A-AD06-471B-9E9A-2BCC173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1C0-1F68-44F2-BC9D-A93D0535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69A-83AE-4F5A-8167-9952718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44E-CEE1-41A8-BF24-316785D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E34-7287-47DD-9825-A108174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E23-7C08-48B0-B401-935789406CDD}" type="slidenum">
              <a:rPr b="0" lang="eu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4025880" cy="3478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3497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55:01Z</dcterms:created>
  <dc:creator>ik015111zz</dc:creator>
  <dc:description/>
  <dc:language>en-US</dc:language>
  <cp:lastModifiedBy>ik015111zz</cp:lastModifiedBy>
  <dcterms:modified xsi:type="dcterms:W3CDTF">2012-05-18T06:55:14Z</dcterms:modified>
  <cp:revision>1</cp:revision>
  <dc:subject/>
  <dc:title>Diapositiva 1</dc:title>
</cp:coreProperties>
</file>